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81C-5456-45A3-88E8-33510B2D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FF4-286D-4101-933B-A6967E93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F3E-4857-4035-B3C8-5C843ABB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99F-B4E2-4346-B44D-2397261C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D69E-ADAA-407A-B85D-8555C2F2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FD36-793B-47A5-B211-FF917B06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1B7A-748F-4F70-AE8B-0FBF2EC1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AAC3-81DB-433B-90CB-9EA014C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3FE7-ECCB-449D-A22C-D8F296E2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7FA5-53B0-48B9-B4CA-2042D0EE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866D-CF35-486D-AF7A-B856089A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951-AA7D-450C-8B1A-90836870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E1CD-381C-4718-8C35-2845F74D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6468-B8BD-4F87-9ECA-0FF6F8F2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EA7F-D755-4CE3-8668-E891DFB2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69B5-D02A-42E2-BC42-57863D64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1485-E95C-404F-9427-FCD91385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98D-4E15-47A1-8975-FA2AA524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1BB-42CB-4D7D-8EA5-406CE9EE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633-C9E4-4B0B-8CFD-E376974A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587-7280-47FE-9579-DBBE6EA8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B38-D27A-4682-9D27-7776DC5C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C0A-F272-4C6A-9B61-416DE68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F3C-10FA-4F2F-8CCC-CDD93EE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EF57-404D-4971-BA1E-91C702A2C51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1E8C-718F-444A-9A81-CC3DA5DE55E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glish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Oct. 1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cuss ch. 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ch. 1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ch. 14 and 15 for homewor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y Dad and me wanted to capture a baby moose and take it home said Sven but than we found out they might grow to 2000 pound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gression:story::______:ro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shiper:reverent::____:pon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. 12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rry feels a sense of happiness after his pass to Goober on the football field. What does he find taped to his locke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. 1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was Jerry’s assignmen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on makes a point of saying the chocolate sale is optional, is it really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chapters 14 and 1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3:07:10Z</dcterms:created>
  <dc:creator>VMS</dc:creator>
  <dc:description/>
  <dc:language>en-US</dc:language>
  <cp:lastModifiedBy>VMS</cp:lastModifiedBy>
  <dcterms:modified xsi:type="dcterms:W3CDTF">2009-10-13T20:08:54Z</dcterms:modified>
  <cp:revision>3</cp:revision>
  <dc:subject/>
  <dc:title>English</dc:title>
</cp:coreProperties>
</file>